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F7A-01A2-40F8-BA82-8FDFFAD8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B32-E180-4087-BAAA-CB72870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687-8E3A-4A34-B907-8BCDA2BB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7A2-595D-487F-920F-10743931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E66-2779-46E3-8EB4-75EF6622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0D8-9296-4ACF-AC57-2892802F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B1D-E1E2-47E1-B5FD-CF0DAA36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652-A32F-4783-8DD7-EE336D40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15C-D66D-4445-9BD8-961E419B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2E8-FD50-4A01-962A-4F999391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572-0E54-4B5C-BBF2-202855D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8A3-E5E8-44CD-81DF-CCDB5B08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CA96-8E7E-4090-B140-F8FED86D08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4360" y="1268280"/>
            <a:ext cx="79912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roject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Drag the outline of each European country and drop it in its correc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zucca piccola"/>
          <p:cNvPicPr/>
          <p:nvPr/>
        </p:nvPicPr>
        <p:blipFill>
          <a:blip r:embed="rId1"/>
          <a:stretch/>
        </p:blipFill>
        <p:spPr>
          <a:xfrm>
            <a:off x="7740720" y="6381720"/>
            <a:ext cx="103824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093080" y="6453360"/>
            <a:ext cx="1800000" cy="404640"/>
          </a:xfrm>
          <a:custGeom>
            <a:avLst/>
            <a:gdLst>
              <a:gd name="textAreaLeft" fmla="*/ 25920 w 1800000"/>
              <a:gd name="textAreaRight" fmla="*/ 1774080 w 18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6019" h="21600">
                <a:moveTo>
                  <a:pt x="0" y="0"/>
                </a:moveTo>
                <a:lnTo>
                  <a:pt x="96019" y="0"/>
                </a:lnTo>
                <a:lnTo>
                  <a:pt x="96019" y="21600"/>
                </a:lnTo>
                <a:lnTo>
                  <a:pt x="0" y="21600"/>
                </a:lnTo>
                <a:close/>
              </a:path>
              <a:path fill="lightenLess" w="96019" h="21600">
                <a:moveTo>
                  <a:pt x="0" y="0"/>
                </a:moveTo>
                <a:lnTo>
                  <a:pt x="96019" y="0"/>
                </a:lnTo>
                <a:lnTo>
                  <a:pt x="94619" y="1400"/>
                </a:lnTo>
                <a:lnTo>
                  <a:pt x="1400" y="1400"/>
                </a:lnTo>
                <a:close/>
              </a:path>
              <a:path fill="darken" w="96019" h="21600">
                <a:moveTo>
                  <a:pt x="96019" y="0"/>
                </a:moveTo>
                <a:lnTo>
                  <a:pt x="96019" y="21600"/>
                </a:lnTo>
                <a:lnTo>
                  <a:pt x="94619" y="20200"/>
                </a:lnTo>
                <a:lnTo>
                  <a:pt x="94619" y="1400"/>
                </a:lnTo>
                <a:close/>
              </a:path>
              <a:path fill="darkenLess" w="96019" h="21600">
                <a:moveTo>
                  <a:pt x="96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619" y="20200"/>
                </a:lnTo>
                <a:close/>
              </a:path>
              <a:path fill="lighten" w="96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zucca piccola"/>
          <p:cNvPicPr/>
          <p:nvPr/>
        </p:nvPicPr>
        <p:blipFill>
          <a:blip r:embed="rId1"/>
          <a:stretch/>
        </p:blipFill>
        <p:spPr>
          <a:xfrm>
            <a:off x="3995640" y="6524640"/>
            <a:ext cx="1038240" cy="2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ShockwaveFlash1"/>
          <p:cNvGraphicFramePr/>
          <p:nvPr/>
        </p:nvGraphicFramePr>
        <p:xfrm>
          <a:off x="0" y="836640"/>
          <a:ext cx="914400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9144000" cy="540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84360" y="1268280"/>
            <a:ext cx="799128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000000"/>
                </a:solidFill>
                <a:latin typeface="Verdana"/>
              </a:rPr>
              <a:t>B r a v o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zucca piccola"/>
          <p:cNvPicPr/>
          <p:nvPr/>
        </p:nvPicPr>
        <p:blipFill>
          <a:blip r:embed="rId1"/>
          <a:stretch/>
        </p:blipFill>
        <p:spPr>
          <a:xfrm>
            <a:off x="7740720" y="6381720"/>
            <a:ext cx="103824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7:32:11Z</dcterms:created>
  <dc:creator>madeleine de schutter</dc:creator>
  <dc:description/>
  <dc:language>en-US</dc:language>
  <cp:lastModifiedBy>Ron Putnam</cp:lastModifiedBy>
  <dcterms:modified xsi:type="dcterms:W3CDTF">2008-03-03T20:40:43Z</dcterms:modified>
  <cp:revision>15</cp:revision>
  <dc:subject/>
  <dc:title>Dia 1</dc:title>
</cp:coreProperties>
</file>